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5BF-94CA-48E5-BBCD-B0FE1982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E15-3F71-4F9C-A541-4394AF86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321-A4F4-45B9-BC7F-15411F32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F25-646D-4AD1-B613-0975A515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7699-CD3C-4FF5-8BEE-C8277361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A7A3-CD54-465D-A525-52DF874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CE1F-00D6-4367-9B47-0EA3F71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CEDE-77E3-4E62-B0BF-03D61990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CED-23AA-4257-A6B2-F1D3C41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96DD-B268-45D5-8A99-E1AE6A85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8ECA-E1EB-4FC6-8B31-0C93190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EE73-E6A7-4283-A25E-8A95A93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FF09-7167-47A5-8223-D966A62F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71C4-B454-4FD5-8800-E6F99F9D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9C89-5FB8-4D36-9CCA-4A12C95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1BD3-A775-438A-B0D3-9C4D497C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9681-B512-4C2C-B05A-CC20EB04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7E6-175C-4F81-8336-3765052B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848-899F-4FCB-B714-37945747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30D-BDD3-4F5E-8C46-B51B070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7E9-8028-40DA-981B-87C97A43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3DC-E886-471E-B059-66773DAF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E53-61F3-4B86-BCEB-947D7D8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C3A-A858-4903-B57B-4128288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C2BB-5053-49F2-B4DD-FF82D7C3EED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4F28-971A-4EDE-BB20-ACEA54E4CB4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edritos-home.com/Logo_Cajasur_o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4360" y="765000"/>
            <a:ext cx="81946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ción y administrac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empres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413000"/>
            <a:ext cx="640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ble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ctar las cuentas de forma correcta y fiable para evitar problemas con las auditorias externas y así reflejar la situación económica de la empresa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Administración Contable y sobre los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484280"/>
            <a:ext cx="698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e de los Programa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r programas de formación para los nuevos integrant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Existen cursos, quién los imp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, existen cursos para complementar la formación de nuestros empleados en varias materias. Lo imparte profesionales externos a la empresa o empleados con un alto nivel de formación  preparados para transmitir su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Jefe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133720"/>
            <a:ext cx="2087640" cy="792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149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501336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41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2087640" cy="719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5761080" cy="18003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2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ISIÓN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9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40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I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916280"/>
            <a:ext cx="7201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historia de Cajasur es relativamente reciente. Surje en 1995  de la fusión de Monte de Piedad y Caja de Ahorros de Córdoba, vinculada a la Iglesia Católica y la Caja Provincial de Ahorros de Córdoba, vinculada a la Diputación Provincial. Cajasur era un nombre con el cual venia operando el Monte de Piedad desde haci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Monte de Piedad y Caja de Ahorros de Córdoba conocido a lo largo de la historia con diversos nombres como Monte de Piedad de Córdoba, como Monte de Piedad del Sr Medina o Caja de Ahorros de Córdoba, fue fundada por el Cabildo Catedrático de Córdoba, como Monte de Piedad, el 1 de septiembre de 1864. En la actualidad es la Iglesia Católica quien sigue controlando a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79280" y="476280"/>
            <a:ext cx="5762880" cy="5304960"/>
            <a:chOff x="179280" y="476280"/>
            <a:chExt cx="5762880" cy="5304960"/>
          </a:xfrm>
        </p:grpSpPr>
        <p:sp>
          <p:nvSpPr>
            <p:cNvPr id="104" name="Pyr1"/>
            <p:cNvSpPr/>
            <p:nvPr/>
          </p:nvSpPr>
          <p:spPr>
            <a:xfrm>
              <a:off x="2421720" y="476280"/>
              <a:ext cx="1291680" cy="1175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yr2"/>
            <p:cNvSpPr/>
            <p:nvPr/>
          </p:nvSpPr>
          <p:spPr>
            <a:xfrm>
              <a:off x="1673640" y="1652040"/>
              <a:ext cx="2780640" cy="1379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yr3"/>
            <p:cNvSpPr/>
            <p:nvPr/>
          </p:nvSpPr>
          <p:spPr>
            <a:xfrm>
              <a:off x="933840" y="3031560"/>
              <a:ext cx="4259880" cy="1377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yr4"/>
            <p:cNvSpPr/>
            <p:nvPr/>
          </p:nvSpPr>
          <p:spPr>
            <a:xfrm>
              <a:off x="179280" y="4402080"/>
              <a:ext cx="5762880" cy="1379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00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413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06064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0828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013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86064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125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19700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dada por el Cabildo Catedrático de Córdoba como Monte de P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184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primeros Estatutos y Reglamentos por Reales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4922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ida formalmente por el mismo Cabildo Eclesi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068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Estatutos vigentes en la 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357336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usión del Monte de Piedad y Caja de Ahorros de Córdoba y de la Caja Provincial de Ahorros de Córdoba. Adopta el nombre comercial de Caja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8690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enta con 3048 empleados y 485 oficinas repartidas en 15 provi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5499000" cy="370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2133720"/>
            <a:ext cx="358560" cy="358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35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852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no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76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SIÓ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7628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SIÓ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916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isión de Cajasur es a través de una fundación, hermandad… etc sin animo de lucro, ayudar  a aquellos que lo necesiten tanto económicamente como socialmente, dando trabajo a aquellos que con dedicación y esfuerzo desean llevar a cabo una labor en una Caja de Ahorros como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184464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visión de Cajasur es abrir más oficinas en toda España y lograr sobrevivir a la situación económica que nos acontece saliendo airosos sin necesidad de cerrar oficinas ni dejando sin empleo a sus trabajadores. Da becas a estudiantes, ayuda a personas con discapacidad o en riesgo de exclusión social o subvencionando la conservación del patrimonio histórico-artístico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3743280" cy="1008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LA ESTRUCTURA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16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557360"/>
            <a:ext cx="6192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a de Gestión Comercial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y controlar la productividad en la empresa para que resulte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el área de información comercial y el área de planificación comercial, y las personas que las integ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de Planificación Comercial y Marketing e indirectamente al 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0:50:49Z</dcterms:created>
  <dc:creator>Lena Salas</dc:creator>
  <dc:description/>
  <dc:language>en-US</dc:language>
  <cp:lastModifiedBy>Familia</cp:lastModifiedBy>
  <dcterms:modified xsi:type="dcterms:W3CDTF">2009-05-15T17:15:25Z</dcterms:modified>
  <cp:revision>4</cp:revision>
  <dc:subject/>
  <dc:title>Diapositiva 1</dc:title>
</cp:coreProperties>
</file>